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183-1278-45B9-8126-1C2848EBDB6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BD1-78CE-4F11-833A-38F271C44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39C-C9D3-4866-9939-E009EA724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4317-DAC1-4B27-90C4-8A57B9D12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13D-2CEC-42EA-8D43-E9010BED4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144-C77D-4E86-AC7A-1ECAB60A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E67-FEF2-4655-9E6B-478A981D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1E-3696-4379-99AE-4A75DD3C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8F2-88A3-48AF-90B9-262D635F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477-70A2-496E-9056-54683E6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4064-F0E6-4DB2-9204-1D03EA94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4A1-6DB2-415A-BF1E-2611F1F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753-CBBF-463A-93D5-5C593FA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A582-9328-4FAD-A863-FD87106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83C3-7604-461F-9226-C2879DC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7829-63FC-447A-9B1C-1B04FE2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DAA-656E-43EA-9978-44D34A9D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1A70-7DDF-4139-BF4A-0C7430B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3694-A68E-437F-A7D4-587F520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D63-F8B3-4887-BB0B-08B4B474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95D-A88A-4D6F-AB50-79230EF9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99A-10D7-4A5F-9127-3CD1D8FA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550-290B-4157-91C0-9DEDC139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ED4-F74B-4C10-AA7D-6ABE322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628-AA1D-40BB-975D-7BC2CF05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00A-EBDF-4BB7-A02B-1C6F3D7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2C6-D55A-497C-9755-96491641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692-F2A8-42A9-9865-6601813C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42-E26D-4027-9703-2320CCD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AA5-1010-4280-A28F-FF47D79001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3D45-2B93-4591-A5A5-47F15CE82C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roducción General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os del curs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Conocerá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vínculos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 entre el medio ambiente, el cambio climático, la economía verde y el desarrollo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Será consciente de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beneficios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 y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retos 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de integrar el medio ambiente y el cambio climático en los procesos de planificación nacional y elaboración de presupuesto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Estará familiarizado con las similitudes, sinergias y diferencias entre la integración del medio ambiente y el cambio climático en la cooperación al desarrollo vs la integración en los procesos de planificación nacional y elaboración de presupuesto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AA1-D372-47FD-82D0-4C28CC9B5F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os del curs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Asimismo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Explorará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juntos – en base a experiencias – los conceptos de integración, medio ambiente, cambio climático, economía verde y su pertinencia para el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Compartirá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puntos de vista, experiencias y conocimien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Contribuirán por medio de aportar puntos de vista y </a:t>
            </a: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retroalimentació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sobre la integración en la práctic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3CF-41AC-4F6B-8267-AB5FB4020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Horario (indicativo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09.00 – 10.3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0.30 – 11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reces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1.00 – 12.3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2.30 – 14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Almuerz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4.00 – 15.15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3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5.15 – 15.45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reces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5.45 – 17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C76A-D3CD-45EB-868B-3FF29FAA1F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cp:lastPrinted>2014-02-07T11:30:03Z</cp:lastPrinted>
  <dcterms:modified xsi:type="dcterms:W3CDTF">2014-06-15T09:31:30Z</dcterms:modified>
  <cp:revision>160</cp:revision>
  <dc:subject/>
  <dc:title>Slide 1</dc:title>
</cp:coreProperties>
</file>